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73E7-DB03-4C7F-ACA2-78F99546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9DF7-C16F-4303-B7F3-2C558870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© Mike Dubson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No (area under curve is 0.9). (Pollock) Skipped this one in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2, 8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2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24AF-8EE0-48D2-BA32-CBA021080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Yes, but you have to square the wave function before integrating. (Pollock) Class was 90+% WRONG when they did it silently. I poked slightly, and they switched to mostly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2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L2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1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2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86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8C50-0028-4EA7-A29C-636011130A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discussions, long time, but they all got it (1 voted for A) Nice lead in to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ostulate (collap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L2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even Pollock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F6D2-1130-4AF9-99C2-1185B2CCE3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equal to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2, 0% 4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6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190A-A7F8-44E8-9022-E0590E90BC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No. (Pollock) Skipped in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2, 48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52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1234-61D2-4962-BDC5-D9DB9F629B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0.6. (Pollock) Skipped in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2, 0% 0% 0%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100%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3, 3% 0% 3%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5%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2395-E051-4127-A034-EFFA1E3DF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2/3. (Pollock) Skipped in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3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2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% 0% 4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361B-D91D-48A0-B89A-73DDB27B1A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2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0D6D-A4E6-434F-9C1C-93C67DC9B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llock) SJP – we started our Friday classes with this clicker question most wee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even Pollock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C590-BDD9-430C-A26B-A3DE42F2B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(sum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(Pollock) I changed Mike’s numbers to be like “ages in Phys 1110 classroom”  (N= 300). They all got it corr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3, 3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0% 3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10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BAC0-77A2-46FA-8698-41A623C0D3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110/342. (Pollock) Skipped in Fall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3, 0% 0% 18% 4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79%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E8F2-2E02-45FE-B79B-5F17ABBF8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Both are correct. The index i has different meanings in the two equations. In the first equation, the index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le result in the list of different possible results of a trial. In the second equation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esult of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l. (Pollock) Skipped in F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8FD9-3844-4E95-9B56-D6861283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A, the sum of the squares cannot be less than the sum squared. (Pollock) We had 93%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4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4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71% 0%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4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86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3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3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8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1ACB-4CF8-4D89-A555-9213DD1CB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Both are almost the same size;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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a little larger or a little smaller than sigm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A94E-462C-4DF9-8F78-A9038024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llock) Discussed, but didn’t get to this as a clicker ques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even Pollock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DCA5-BD45-4709-A038-8F35AC15B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C because the wavelength is actually pi. (Pollock) Modified by SJP. Done silently, it was ~60%. Then talking to their neighbor, it was 9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0%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60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%,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0%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0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%,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4, 14% 14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71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%,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2F2F-B7EB-4513-8AFF-0E69581BF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ANSWER: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Wave 2 is faster (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). (Pollock) Modified this in Fa08 to make the wrong answers more tempting (so I made omega the same in both, and the amplitude larger in 1). Answer is still 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class, 87% corr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4,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68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2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87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2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4, 1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85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2F46-A012-4E51-A070-1023F7AB0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C because the period is actually pi. (Pollock) Skipped in F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E6BC-7AD9-4E46-ADDC-2CC79AFD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 is A, because they were supposed to get 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2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10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1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10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2E0C-2788-43A5-9017-E39C67B066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llock) Did this by hands in Fa08. Most said yes, several not 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88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12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(pre-requi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E802-5E0A-4C90-8785-E44A86C7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Yes, always. (Pollock) I modified the problem to make it harder, but still very easy for my class. But, doesn’t seem to be a waste of time to let them decide so, rather than tell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10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10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3CAD-E6B4-4BA2-8A92-F35899C6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llock) Modified by SJP, Mike’s figure was different, but I disagree with the details. Answer is still C. Students had no trouble at all with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5, 3% 23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74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%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5, 0% 2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3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%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0052-387A-4F8C-A9B1-3E1365A27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2.5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λ. (Pollock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% for E, I think many were reluctant to vote for “None of these”. Good little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5, 0% 23% 0% 2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57%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0% 23% 0% 20%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52%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14EE-B9A2-49A6-89EC-538C0D65B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very quiet, all the time. The path difference is always 0.5 lambda, hence always have destructive inter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C78D-E0E5-4E17-AF2C-EEBFAF71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Case II is the only linear operator in the list. Case IV is not a linear operator. (Pollock) 83% voted B, but it was a good discu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5, 3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52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83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4,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55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% 13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2B6C-086C-47A9-9BB9-53DB8BD7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llock) Did this as a whiteboard activity – didn’t take long, worked very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even Pollock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98F5-A587-4210-AD52-3F6ABBA95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 (d/dt) produces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−i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Pollock) SP08 – did this as a whiteboard activity instead of a clicker questi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6, 95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% 0%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6, 3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72%]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% 17% 3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B04B-964D-49C8-BF4B-032421FBC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C (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d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duces a factor of –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0B27-92AC-4CD5-9B17-068F3856B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A72C-3F2E-454D-9145-986A3D24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7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6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(pre-requisit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F63-8747-437F-9EC3-975C78E6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particle 1 (p = h/λ so smaller wavelength means larger momentum.). (Pollock) Lecture #6, start of class, almost all got it. (One student wondered about if particles had different mas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9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10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L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94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0% 3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CC41-0FC6-4711-9562-337D2E961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No, we usually use this an an axiom with the principle of least action approach as an alternative. (Pollock) Vote by hand was split (curiously, left/right in the room!) almost 50/50. Good discussion, including whether this can be derived from F=ma, whether it can be derived from Hamilton’s Principle,… I discussed “operational definitions” of quantities, and defended answer B as “better” (if not necessarily corre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1, 0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(1 but no iGrader re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17A7-32C8-4398-BA61-88E256B05A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bson) Mike’s Answer: Yes (from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). (Pollock) Iclicker said 75/25, but hands showed an even split. Several thought this was the definition of torque, so when I pointed out the definition of torque was rxF, they changed their opinion. Others still argued this was on an equal par with Newton 2 (previous one), so it should be the same answer. Again, it’s not about the “correctness”, these are just to break the ice and start arguments/discussions/convers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1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(1 but no iGrader re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9A62-4BA5-4F4D-BB79-27E9EF1E4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son, Sp08, L2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0% 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ke Dubson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902A-3666-4EA8-8C7A-E1C3674389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 NOT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llock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/D/E/ 30,30,30 split. Good conversation, it went on for a long time. Discussion about C, about “what follows”, about meaning of probability, and what we’re assuming. (This one needs words/explanations, the text of the CT is a little vague, e.g. what I meant by E is that they do not follow from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postulates, but might be true for some other reason (perhaps they are from OTHER postulates). My answer is A only, it follows from the meaning of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ock, Fa08, L2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3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% 0% 30% 3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Wolfe, Sp09, L1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[50%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0% 22% 2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even Pollock (CU-Boul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4879-9D99-4AFA-A016-331911A38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960-1EC3-453F-B1AA-708072D1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51C-08F1-43E7-9BCE-B3FE1ABF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575-9DA5-4B0B-8983-392991C0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9D1-71DC-4D9D-A532-AB6E3BE5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498-4726-4A74-ABA7-EAAC26E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FFE-24C2-485C-BCC4-979C6CFE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341-BE7E-41F8-87F5-C89CA82F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6FB-0EFF-4F2A-BE68-196360D6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779-9FEB-4165-8415-24981CB1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2AF-6202-48A4-97B3-3D9138A6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EC8-FCFD-4072-985F-ABAE0B6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A08-349E-4EE2-BFA0-89727F43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9B22-4895-4354-9449-F57188EF0AB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Quantum I (PHYS 3220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cept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5080"/>
            <a:ext cx="7772400" cy="18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s the wave function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=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) shown normalized? Note that this is a plot of |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|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  <a:ea typeface="ヒラギノ角ゴ Pro W3"/>
              </a:rPr>
              <a:t>2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vs. x.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93800" y="2424240"/>
            <a:ext cx="7161120" cy="4059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23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s this wave function normalized?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This wave function is pure real)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60400" y="2590920"/>
            <a:ext cx="741060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83880"/>
            <a:ext cx="845820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How would you physicall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y interpret the wave function in the sketch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5121360" y="2122560"/>
            <a:ext cx="4022640" cy="3454200"/>
            <a:chOff x="5121360" y="2122560"/>
            <a:chExt cx="4022640" cy="3454200"/>
          </a:xfrm>
        </p:grpSpPr>
        <p:pic>
          <p:nvPicPr>
            <p:cNvPr id="83" name="Picture 3" descr=""/>
            <p:cNvPicPr/>
            <p:nvPr/>
          </p:nvPicPr>
          <p:blipFill>
            <a:blip r:embed="rId1"/>
            <a:srcRect l="52634" t="0" r="14267" b="6069"/>
            <a:stretch/>
          </p:blipFill>
          <p:spPr>
            <a:xfrm>
              <a:off x="5121360" y="2122560"/>
              <a:ext cx="4008600" cy="34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4"/>
            <p:cNvSpPr/>
            <p:nvPr/>
          </p:nvSpPr>
          <p:spPr>
            <a:xfrm>
              <a:off x="6986160" y="3305520"/>
              <a:ext cx="215784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Content Placeholder 2"/>
          <p:cNvSpPr/>
          <p:nvPr/>
        </p:nvSpPr>
        <p:spPr>
          <a:xfrm>
            <a:off x="206280" y="2246400"/>
            <a:ext cx="48610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M doesn’t let you “interpret” wave functions like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 It’s a large part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206280" y="5326200"/>
            <a:ext cx="88632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 a small parti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 a particle located at a definite spot 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206280" y="1515960"/>
            <a:ext cx="88632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 This doesn’t look very physica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7400" y="2123640"/>
            <a:ext cx="7772400" cy="15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Statistics and Probabil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439200"/>
            <a:ext cx="796284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You flip an ordinary coin in the air and get 3 heads in 3 tosses.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On the 4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ヒラギノ角ゴ Pro W3"/>
              </a:rPr>
              <a:t>th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 toss, the probability of heads is …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17520" y="3454200"/>
            <a:ext cx="7772400" cy="27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greater than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less than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equal to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0" y="6642000"/>
            <a:ext cx="39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7320" y="2361960"/>
            <a:ext cx="879768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inko! A marble is released from the same starting point each time.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lassical physics says identical systems with exactly the same initial conditions always lead to the same final result, in a deterministic and repeatable way.</a:t>
            </a:r>
            <a:br>
              <a:rPr sz="3000"/>
            </a:br>
            <a:br>
              <a:rPr sz="800"/>
            </a:b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Is the distribution of final outcomes for the Plinko game (played 300 times) in this example in conflict with our theories of classical systems?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17520" y="6297480"/>
            <a:ext cx="7772400" cy="4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Yes       B)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0" y="6642000"/>
            <a:ext cx="39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0" t="40909" r="0" b="6818"/>
          <a:stretch/>
        </p:blipFill>
        <p:spPr>
          <a:xfrm>
            <a:off x="985680" y="498600"/>
            <a:ext cx="2262240" cy="166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994280" y="382680"/>
            <a:ext cx="1924200" cy="178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rcRect l="0" t="40909" r="0" b="6818"/>
          <a:stretch/>
        </p:blipFill>
        <p:spPr>
          <a:xfrm>
            <a:off x="609480" y="222120"/>
            <a:ext cx="3016440" cy="221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4"/>
          <a:stretch/>
        </p:blipFill>
        <p:spPr>
          <a:xfrm>
            <a:off x="4673520" y="87480"/>
            <a:ext cx="2565360" cy="23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7840" y="199800"/>
            <a:ext cx="863424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robability density |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|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  <a:ea typeface="ヒラギノ角ゴ Pro W3"/>
              </a:rPr>
              <a:t>2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s plotted for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normalize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wave function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). What is the probability that a position measurement will result in a measured value between 2 and 5?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884160" y="3186000"/>
            <a:ext cx="5826240" cy="3498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6673680" y="3598920"/>
            <a:ext cx="194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7840" y="199800"/>
            <a:ext cx="863424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robability density |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|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  <a:ea typeface="ヒラギノ角ゴ Pro W3"/>
              </a:rPr>
              <a:t>2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s plotted for a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non-normalized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wavefunction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).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What is the probability that a position measurement will result in a measured value between 3 and 5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781680" y="3733920"/>
            <a:ext cx="194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/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412920" y="3219480"/>
            <a:ext cx="5914800" cy="3435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19360" y="200160"/>
            <a:ext cx="467676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A non-normalized wave fn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) (and  |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)|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  <a:ea typeface="ヒラギノ角ゴ Pro W3"/>
              </a:rPr>
              <a:t>2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s plotted).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The probability that the particle will be found between 4 and 6 is</a:t>
            </a:r>
            <a:r>
              <a:rPr b="0" lang="en-US" sz="38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 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5102280" y="4268880"/>
            <a:ext cx="212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41120" y="0"/>
            <a:ext cx="4381560" cy="68198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1520" y="439560"/>
            <a:ext cx="883296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Do you plan on attending Tutorial today?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(4 PM, basement Tutorial bay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es, I’ll be t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y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/can’t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2800" y="1971360"/>
            <a:ext cx="7772400" cy="15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Clicker Intr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315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 independent trials are made of a quantity x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possible results for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screte spectr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...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...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M possible distinct results)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 of N trials,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f the trials produce resul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f you add up all the results of all N trials,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what is the sum of the result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95360" y="3421080"/>
          <a:ext cx="3187800" cy="3200400"/>
        </p:xfrm>
        <a:graphic>
          <a:graphicData uri="http://schemas.openxmlformats.org/drawingml/2006/table">
            <a:tbl>
              <a:tblPr/>
              <a:tblGrid>
                <a:gridCol w="1593720"/>
                <a:gridCol w="15940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081320" y="3300480"/>
                <a:ext cx="1633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081320" y="4464000"/>
                <a:ext cx="18813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081320" y="5726160"/>
                <a:ext cx="15606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15200" y="3567240"/>
                <a:ext cx="10652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415200" y="4464000"/>
                <a:ext cx="20937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0" name="TextBox 8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21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 = 342 trials, (6 different possible results in each trial)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What is the best estimate of the probability that a token picked from the bag will be an 8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5360" y="3225960"/>
          <a:ext cx="3187800" cy="3200400"/>
        </p:xfrm>
        <a:graphic>
          <a:graphicData uri="http://schemas.openxmlformats.org/drawingml/2006/table">
            <a:tbl>
              <a:tblPr/>
              <a:tblGrid>
                <a:gridCol w="1593720"/>
                <a:gridCol w="15940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8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7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221000" y="3262320"/>
                <a:ext cx="14925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zer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221000" y="4157640"/>
                <a:ext cx="14907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238640" y="5460840"/>
                <a:ext cx="10285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427800" y="2960640"/>
                <a:ext cx="1527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27800" y="4157640"/>
                <a:ext cx="14907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Box 8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5960" y="132840"/>
            <a:ext cx="8444160" cy="25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 claim that the standard deviation is computed according to Formula I below. According to Taylor’s book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ror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the correct formula for the standard deviation is formula II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Which formula is correct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82760" y="3042720"/>
            <a:ext cx="4016520" cy="29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Only formula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Only formula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Both are w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Both are cor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1920" y="2855880"/>
                <a:ext cx="422568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31920" y="4808520"/>
                <a:ext cx="401292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3" name="TextBox 5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For a large number N of independent measurements of a random variable x, which statement is true?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09760" y="2735280"/>
                <a:ext cx="3906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³</m:t>
                    </m:r>
                    <m:s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lway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71680" y="4164120"/>
                <a:ext cx="5716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³</m:t>
                    </m:r>
                    <m:s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or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Box 7"/>
          <p:cNvSpPr/>
          <p:nvPr/>
        </p:nvSpPr>
        <p:spPr>
          <a:xfrm>
            <a:off x="1158840" y="5041800"/>
            <a:ext cx="68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ng on the probability distribu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0280" y="141120"/>
            <a:ext cx="8748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00 measurements are made of a random variable x and then the standard deviation is computed. Then 1000 measurements are made of the same random variable and the standard deviation is recomput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. Which is larger, σ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  <a:ea typeface="ヒラギノ角ゴ Pro W3"/>
              </a:rPr>
              <a:t>100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or σ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  <a:ea typeface="ヒラギノ角ゴ Pro W3"/>
              </a:rPr>
              <a:t>1000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95120" y="3743280"/>
            <a:ext cx="869472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They are almost the same size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uld be a little larger or a little smaller th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y a significan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y a significan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uld easily be significantly different th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at least a factor of 3 different), depending on the probability distribution of 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556000" y="2352600"/>
                <a:ext cx="321948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d>
                                          <m:dPr>
                                            <m:begChr m:val="⟨"/>
                                            <m:endChr m:val="⟩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8080" y="37800"/>
            <a:ext cx="8804160" cy="27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 ball is released from res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ou tak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an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ictures as it falls to x=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pictures are equally spaced in time)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What is &lt;x&gt;, the average distance from the origin in randomly selected pic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5560" y="3014280"/>
            <a:ext cx="51894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rger than H/2 but less than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rger than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maller than H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2"/>
          <p:cNvGrpSpPr/>
          <p:nvPr/>
        </p:nvGrpSpPr>
        <p:grpSpPr>
          <a:xfrm>
            <a:off x="6508800" y="3675240"/>
            <a:ext cx="2144520" cy="2004480"/>
            <a:chOff x="6508800" y="3675240"/>
            <a:chExt cx="2144520" cy="2004480"/>
          </a:xfrm>
        </p:grpSpPr>
        <p:sp>
          <p:nvSpPr>
            <p:cNvPr id="146" name="Straight Connector 5"/>
            <p:cNvSpPr/>
            <p:nvPr/>
          </p:nvSpPr>
          <p:spPr>
            <a:xfrm>
              <a:off x="6508800" y="3943800"/>
              <a:ext cx="1063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Straight Arrow Connector 7"/>
            <p:cNvCxnSpPr/>
            <p:nvPr/>
          </p:nvCxnSpPr>
          <p:spPr>
            <a:xfrm flipH="1">
              <a:off x="7069680" y="4286160"/>
              <a:ext cx="2160" cy="108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8" name="Straight Connector 9"/>
            <p:cNvSpPr/>
            <p:nvPr/>
          </p:nvSpPr>
          <p:spPr>
            <a:xfrm>
              <a:off x="6545160" y="5482800"/>
              <a:ext cx="1001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0"/>
            <p:cNvSpPr/>
            <p:nvPr/>
          </p:nvSpPr>
          <p:spPr>
            <a:xfrm>
              <a:off x="7686720" y="367524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11"/>
            <p:cNvSpPr/>
            <p:nvPr/>
          </p:nvSpPr>
          <p:spPr>
            <a:xfrm>
              <a:off x="7693920" y="522000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=+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"/>
            <p:cNvSpPr/>
            <p:nvPr/>
          </p:nvSpPr>
          <p:spPr>
            <a:xfrm>
              <a:off x="6899760" y="3772800"/>
              <a:ext cx="342000" cy="34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3"/>
          <p:cNvSpPr/>
          <p:nvPr/>
        </p:nvSpPr>
        <p:spPr>
          <a:xfrm>
            <a:off x="6021360" y="3529080"/>
            <a:ext cx="2673360" cy="2357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7400" y="2123640"/>
            <a:ext cx="7772400" cy="15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Wav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0320" y="237960"/>
            <a:ext cx="8858160" cy="36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 traveling wave is described b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x,t) = 4 sin(2x – t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 the numbers are in the appropriate SI (mks) units.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o 1 digit accuracy, the wavelength, λ,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s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most nearly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…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65240" y="4371840"/>
            <a:ext cx="777240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1m       B) 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3m      D) 4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Considerably more than 4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wo traveling waves 1 and 2 are described by the equations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x,t) = 8 sin(4x – 2t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x,t) = 2 sin(x – 2t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 the numbers are in the appropriate SI (mks) units.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Which wave has the higher speed?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4425840"/>
            <a:ext cx="7772400" cy="22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v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v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oth waves have the sam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0320" y="237600"/>
            <a:ext cx="885816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 traveling wave is described b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x,t) = 4 sin(x – 2t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 the numbers are in the appropriate SI (mks) units.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he period of wave 2 is most nearly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414648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Do you have an iClicker? (Set your frequency to CB and vote.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Have you ever studied the (classical) Wave Equation?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2833200"/>
            <a:ext cx="7772400" cy="38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t 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37560" cy="50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t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x,t) and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x,t) both be solutions of the same wave equation; that is,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er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can be 1 or 2, and v is a constant.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s the function y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ヒラギノ角ゴ Pro W3"/>
              </a:rPr>
              <a:t>sum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,t) = ay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ヒラギノ角ゴ Pro W3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,t) +by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ヒラギノ角ゴ Pro W3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,t)  still a solution of the wave equation? (with a, b constants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34720" y="5175360"/>
            <a:ext cx="8389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Yes, always          B) No,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Sometimes, depending on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nd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41640" y="1179360"/>
                <a:ext cx="383544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270000"/>
            <a:ext cx="374004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wo impulse waves are approaching each other, as show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Which picture correctly shows the total wave when the two waves are passing through each other?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017960" y="351000"/>
          <a:ext cx="4713120" cy="63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351000"/>
                    <a:ext cx="4713120" cy="63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038"/>
          <p:cNvSpPr/>
          <p:nvPr/>
        </p:nvSpPr>
        <p:spPr>
          <a:xfrm>
            <a:off x="190440" y="5815080"/>
            <a:ext cx="381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E) None of these is remotely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7960" y="179280"/>
            <a:ext cx="8761680" cy="16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A two-slit interference pattern is viewed on a screen. The position of a particular minimum is marked. This spot on the screen is further from the lower slit than from the top slit. How much further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271440" y="1960560"/>
            <a:ext cx="8626320" cy="414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30320" y="5843520"/>
            <a:ext cx="875952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B) 1.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C) 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D) 0.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760" y="152280"/>
            <a:ext cx="8867880" cy="26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wo radio antennae are emitting isotropic radio signals at the same frequency 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in phas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The two antennae are located a distance 10.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par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= c / f). A technician with a radio tuned to that frequency f walks away from the antennae along a line through the antennae positions, as show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0760" y="4211280"/>
            <a:ext cx="88678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As the technician walks, she notes the tone from the radio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very loud,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alternates loud and quiet as she wal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) very quiet,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quiet at first, and then loud all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803160" y="2816280"/>
            <a:ext cx="7121520" cy="14223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Do you plan to attend today’s Tutorial (on interpretation of wave functions, the Schrodinger Eqn, and time dependenc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561760"/>
            <a:ext cx="7772400" cy="40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es, at the 3 pm “sitting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es, at the 4 pm sitt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erhaps, more likely a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erhaps, more likely a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, can’t come/not planning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1760" y="56880"/>
            <a:ext cx="889488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 linear operator L[f(x)] has the proper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)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)+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(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), a and b any constants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How many of these operators are linear operators? (A and B are constants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200" y="5276880"/>
            <a:ext cx="904716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None of the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1 of the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C)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)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) 4 or mor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7360" y="2444760"/>
                <a:ext cx="831996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I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I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1720" y="299880"/>
            <a:ext cx="8746920" cy="156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ake deBroglie seriously, electrons are waves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ssume an integer # of wavelengths of the orbiting electron must “fit” on the circumference of the orbit (why?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90" name="Group 14"/>
          <p:cNvGrpSpPr/>
          <p:nvPr/>
        </p:nvGrpSpPr>
        <p:grpSpPr>
          <a:xfrm>
            <a:off x="5602320" y="3073320"/>
            <a:ext cx="3435120" cy="3693960"/>
            <a:chOff x="5602320" y="3073320"/>
            <a:chExt cx="3435120" cy="3693960"/>
          </a:xfrm>
        </p:grpSpPr>
        <p:grpSp>
          <p:nvGrpSpPr>
            <p:cNvPr id="191" name="Group 2"/>
            <p:cNvGrpSpPr/>
            <p:nvPr/>
          </p:nvGrpSpPr>
          <p:grpSpPr>
            <a:xfrm>
              <a:off x="5602320" y="3073320"/>
              <a:ext cx="3435120" cy="3693960"/>
              <a:chOff x="5602320" y="3073320"/>
              <a:chExt cx="3435120" cy="3693960"/>
            </a:xfrm>
          </p:grpSpPr>
          <p:sp>
            <p:nvSpPr>
              <p:cNvPr id="192" name="Oval 4"/>
              <p:cNvSpPr/>
              <p:nvPr/>
            </p:nvSpPr>
            <p:spPr>
              <a:xfrm>
                <a:off x="5834160" y="3131280"/>
                <a:ext cx="2950200" cy="29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"/>
              <p:cNvSpPr/>
              <p:nvPr/>
            </p:nvSpPr>
            <p:spPr>
              <a:xfrm>
                <a:off x="5602320" y="3073320"/>
                <a:ext cx="3435120" cy="3217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6"/>
              <p:cNvSpPr/>
              <p:nvPr/>
            </p:nvSpPr>
            <p:spPr>
              <a:xfrm>
                <a:off x="7212600" y="4451040"/>
                <a:ext cx="257760" cy="25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"/>
              <p:cNvSpPr/>
              <p:nvPr/>
            </p:nvSpPr>
            <p:spPr>
              <a:xfrm>
                <a:off x="7483320" y="6077160"/>
                <a:ext cx="130104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mbria"/>
                    <a:ea typeface="Times New Roman"/>
                  </a:rPr>
                  <a:t>n = 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Straight Connector 11"/>
            <p:cNvSpPr/>
            <p:nvPr/>
          </p:nvSpPr>
          <p:spPr>
            <a:xfrm>
              <a:off x="7355880" y="4587840"/>
              <a:ext cx="120924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2"/>
            <p:cNvSpPr/>
            <p:nvPr/>
          </p:nvSpPr>
          <p:spPr>
            <a:xfrm>
              <a:off x="8041680" y="4566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2"/>
          <p:cNvGrpSpPr/>
          <p:nvPr/>
        </p:nvGrpSpPr>
        <p:grpSpPr>
          <a:xfrm>
            <a:off x="216360" y="2220840"/>
            <a:ext cx="6801840" cy="3948840"/>
            <a:chOff x="216360" y="2220840"/>
            <a:chExt cx="6801840" cy="3948840"/>
          </a:xfrm>
        </p:grpSpPr>
        <p:sp>
          <p:nvSpPr>
            <p:cNvPr id="199" name="TextBox 15"/>
            <p:cNvSpPr/>
            <p:nvPr/>
          </p:nvSpPr>
          <p:spPr>
            <a:xfrm>
              <a:off x="216360" y="4125960"/>
              <a:ext cx="51444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n: solve for L = r p 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angular momentum) using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Broglie’s relation  for 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omentum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1"/>
            <p:cNvSpPr/>
            <p:nvPr/>
          </p:nvSpPr>
          <p:spPr>
            <a:xfrm>
              <a:off x="253800" y="2220840"/>
              <a:ext cx="6764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First: derive a formula relating </a:t>
              </a:r>
              <a:br>
                <a:rPr sz="3200"/>
              </a:b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λ, r (radius), and “n” (the number of wavelengths around the circle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79080" y="210600"/>
            <a:ext cx="8348760" cy="280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Starting with the assumed solution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,t) = A exp[i(kx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)] ,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how can one obtain a factor of </a:t>
            </a:r>
            <a:r>
              <a:rPr b="0" i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(perhaps with other factors)?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Use the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operator…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1480" y="3174840"/>
                <a:ext cx="6527880" cy="344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C</m:t>
                        </m:r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D</m:t>
                        </m:r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E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79080" y="210600"/>
            <a:ext cx="8348760" cy="280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Starting with the assumed solution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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x,t) = A exp[i(kx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t)] , how can one obtain a factor of k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  <a:ea typeface="ヒラギノ角ゴ Pro W3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 (perhaps with other factors)? Use the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operator…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01480" y="3137040"/>
                <a:ext cx="6527880" cy="34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C</m:t>
                        </m:r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D</m:t>
                        </m:r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E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Have you looked at the web lecture notes for this class, before now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Do you know the de Broglie relations?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311616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5440" y="248760"/>
            <a:ext cx="8586720" cy="32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wo particles, 1 and 2, are described by plane wave of the form exp[i(kx –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]. Particle 1 has a smaller wavelength than particle 2: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Which particle has larger momentum?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57280" y="361620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rtic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rtic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y have the same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t is impossible to answer based on the info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177948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ntro to Quantum Mechan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In Classical Mechanics, can this equation be derived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3374640"/>
            <a:ext cx="777240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240000" y="2014560"/>
                <a:ext cx="24703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39200"/>
            <a:ext cx="777240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Can this equation be derived?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7520" y="3252960"/>
            <a:ext cx="777240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)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)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289320" y="1619280"/>
                <a:ext cx="241920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(ICLICKER frequency is CB)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Have you done the assigned reading for today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590920"/>
            <a:ext cx="77724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es – Griffiths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es – Web notes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es – both text and 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t really – but I will so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5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ostulate #3 says                        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b(particle is between x and x+dx)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What conclusion can you draw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Content Placeholder 3"/>
              <p:cNvSpPr txBox="1"/>
              <p:nvPr/>
            </p:nvSpPr>
            <p:spPr>
              <a:xfrm>
                <a:off x="4811760" y="76320"/>
                <a:ext cx="18939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Content Placeholder 2"/>
          <p:cNvSpPr/>
          <p:nvPr/>
        </p:nvSpPr>
        <p:spPr>
          <a:xfrm>
            <a:off x="165240" y="1828800"/>
            <a:ext cx="8826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)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t be exactly 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                 is finite, but needn’t 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                 must b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in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t all x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 More than one of 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 One/more ar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rue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do not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90640" y="1722600"/>
                <a:ext cx="16873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82720" y="3017880"/>
                <a:ext cx="16873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54080" y="4521240"/>
                <a:ext cx="9637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21:28:38Z</dcterms:created>
  <dc:creator>Mike Dubson, Steve Pollock</dc:creator>
  <dc:description/>
  <cp:keywords/>
  <dc:language>en-US</dc:language>
  <cp:lastModifiedBy>Steve Goldhaber</cp:lastModifiedBy>
  <dcterms:modified xsi:type="dcterms:W3CDTF">2011-11-28T00:55:04Z</dcterms:modified>
  <cp:revision>370</cp:revision>
  <dc:subject>Quantum Concept Tests</dc:subject>
  <dc:title>Physics 3220 Concept Tests, part 1</dc:title>
</cp:coreProperties>
</file>